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FD91-2BBC-476D-B9DF-74712B1DA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B430-17EA-4E68-88FE-894FD8D2DE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large and diverse organization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C51A-7D5D-4F73-B5D0-F175E9E766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software engineering approaches that focus on defining requirements as the first step do not apply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D892-6803-466D-A82F-E3066C6F90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E461-70BE-443E-8BFD-C58E548B96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F533-E99F-4C12-9284-60DDF3785B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C plan before it;  IOOS data management plan after it;  similar plans in other ag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D129-F8EC-4D2C-A032-3D10AA2240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0C2-F08D-46A3-A177-977897761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 traditional enterprise software engineering approach to address such problem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We’re asking a question of changing corporate culture – much bigger than a software engineer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nd of change is hard to foster under the best of circumstances.  Extra challenges on a very small bud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quirements you define will always be much too big for volunteer teams to meaningfully tack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3A98-3BCC-4846-9CA9-B6D448F39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organizations and people to change is not easy.  But change is happening all the time.  Consider the changes that MP3’s and the iPOD have made to the music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problems -- understanding requirements and formulating a grand plan -- is not necessarily the best way forward.  Sometimes the best thing to do is to step back and see if success is already happening somewhere in this complex syst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opy what those successful people are d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fair – we decided on our strategy for UAF before this book came out.   The book merely serves to document that there is a theoretical basis for the approach I’m going to desc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268-4ADC-4E13-9636-32DE75B26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ing to gridded data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rvice stack defined here already has a lot of 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C19-516C-4D6A-AE9E-5C55CD3D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817-17F2-42EC-A84A-8D0F62A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DEF-76E7-427B-B4C0-140D3997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BF9-3C92-4C9E-9591-544D2E06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E113-F4C4-4442-A2FE-DC7FA236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7D55-BED3-4C89-9BB0-CEC5274F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2C89-8597-4758-85DF-C4E854B7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6A57-DC23-4DCA-8B51-3B2BEB3B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1AF-0A14-4CD4-963A-26C7DD80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475D-C1DC-4C24-954F-880CB215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B7B0-64C7-444A-A616-C65295D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F176-90CC-4D19-9607-53FE354E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3FC-FC34-4F44-BFB1-11C5FF0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E19E-ED87-4CA5-86CD-4A248DE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BD14-8A79-47EA-A944-296D2BC4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2C8B-AB2F-42B5-9BCE-E9881B32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4E46-73C4-485D-8B16-DA990B99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092-8A63-48C6-96C3-BA7B57E1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D0C-9E7A-4CC8-902C-6115B7C2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923-8D05-4F9D-9CC2-B4E893B8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10C-0442-46CB-8BD4-821ABA03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8AC-3EE7-4E4D-8CFA-4F011D2C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E4F-A9E7-45FB-90A5-78A0266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EF9-76D3-4CC0-9D15-9592087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4128-59C1-4AB6-B581-BE2C8F42906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Group 48"/>
          <p:cNvGrpSpPr/>
          <p:nvPr/>
        </p:nvGrpSpPr>
        <p:grpSpPr>
          <a:xfrm>
            <a:off x="8534520" y="76320"/>
            <a:ext cx="530280" cy="533160"/>
            <a:chOff x="8534520" y="76320"/>
            <a:chExt cx="530280" cy="533160"/>
          </a:xfrm>
        </p:grpSpPr>
        <p:sp>
          <p:nvSpPr>
            <p:cNvPr id="46" name="Oval 49"/>
            <p:cNvSpPr/>
            <p:nvPr/>
          </p:nvSpPr>
          <p:spPr>
            <a:xfrm>
              <a:off x="8534520" y="76320"/>
              <a:ext cx="53028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47" name="Picture 50" descr="noaalogo300"/>
            <p:cNvPicPr/>
            <p:nvPr/>
          </p:nvPicPr>
          <p:blipFill>
            <a:blip r:embed="rId7"/>
            <a:stretch/>
          </p:blipFill>
          <p:spPr>
            <a:xfrm>
              <a:off x="8534520" y="76320"/>
              <a:ext cx="53028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00AA-4E6F-4545-A698-95907FCFF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stcompany.com/magazine/142/switch-how-to-change-things-when-change-is-har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D2C0-1BDB-4F3C-8931-D425447C916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Enterprise-wide integration of data 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s a very hard problem!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F941-3E02-4BEB-B656-8155B211736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09480" y="609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is meeting/workshop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tinue what we have started on gridded da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xtend to collections of observations (1D grids)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126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 current default tools already offer great value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12640" indent="-5544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ing beyond: What options exist to handle entire collections as “data objects”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28600" y="4876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Don’t let perfect be the enemy of good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Corollary to “Don't Solve Problems -- Copy Succes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5440" indent="-5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79B-34F6-4B45-8260-98D7747869A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ets go!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A319-EBB4-4E99-A9E1-CB889061DC9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Heterogeneous requirement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ata Providers with different outlook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different "corporate cultures”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ata Users with diverse needs and skill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rporate cultures and people’s habits are notoriously difficult to change</a:t>
            </a:r>
            <a:br>
              <a:rPr sz="2800"/>
            </a:b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and getting funds for integration in NOAA has proven to be a difficult sell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CCE7-D612-4116-B029-34758E227B6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ntegrating NOAA’s data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s such a challeng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eather forecast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time critical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isheries management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regulatory aspects)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autical chart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limate, ocean, atmosphere monito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…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odeling &amp; observat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search &amp; operatio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1E7-2DCC-43AD-AA7B-A34BB3F6283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The accepted approach: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build a “system of systems”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869840"/>
            <a:ext cx="75438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nect existing data systems using a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“wrap” existing systems with loosely coupled, standardized services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A9DE-C6CF-4041-BCE6-CD5728F76E1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30592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Global Earth Observation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ntegrated Data Environment</a:t>
            </a: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O-IDE Con-ops outlines such a plan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005-06,  66 pages</a:t>
            </a: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(by “DMIT”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776760" cy="4233960"/>
          </a:xfrm>
          <a:prstGeom prst="rect">
            <a:avLst/>
          </a:prstGeom>
          <a:ln w="0">
            <a:noFill/>
          </a:ln>
        </p:spPr>
      </p:pic>
      <p:sp>
        <p:nvSpPr>
          <p:cNvPr id="19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8C1-3512-4DCF-8ABB-BB10C2BFC36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eed funding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66"/>
                </a:solidFill>
                <a:latin typeface="Arial"/>
                <a:cs typeface="Arial"/>
              </a:rPr>
              <a:t>٨</a:t>
            </a:r>
            <a:r>
              <a:rPr b="0" lang="en-US" sz="10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vailable last year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w do you approach a very big problem with a very small amount of money?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352680" y="271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inal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9D2A-4B03-4AB6-AA8C-89ACED5834A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enerate use cas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fine requirement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Write a Concept of Operations documen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…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nd then an Implementation Pl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970560" indent="-522720">
              <a:spcBef>
                <a:spcPts val="799"/>
              </a:spcBef>
              <a:buClr>
                <a:srgbClr val="ffff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ssemble volunteer teams to implement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066680" y="525780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NOT !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1173600" y="1508040"/>
            <a:ext cx="6801120" cy="2946960"/>
            <a:chOff x="1173600" y="1508040"/>
            <a:chExt cx="6801120" cy="2946960"/>
          </a:xfrm>
        </p:grpSpPr>
        <p:sp>
          <p:nvSpPr>
            <p:cNvPr id="208" name="Line 5"/>
            <p:cNvSpPr/>
            <p:nvPr/>
          </p:nvSpPr>
          <p:spPr>
            <a:xfrm flipV="1">
              <a:off x="1269720" y="1508040"/>
              <a:ext cx="6600240" cy="2946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Line 6"/>
            <p:cNvSpPr/>
            <p:nvPr/>
          </p:nvSpPr>
          <p:spPr>
            <a:xfrm>
              <a:off x="1173600" y="1877400"/>
              <a:ext cx="6801120" cy="244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0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990720" y="5335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ried and true approach …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D7C0-CCF8-4527-B503-1EB02A06472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lternative (‘agile’) approach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55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on't Solve Problem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-- Copy Success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685800" y="4191120"/>
            <a:ext cx="8001000" cy="1752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witch: How to Change Things When Change Is Hard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", Chip and Dan Heath (psychologists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www.fastcompany.com/magazine/142/switch-how-to-change-things-when-change-is-hard.html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v. 201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FC33-8D46-4AAD-85CF-F26CAEBC2C1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solidFill>
            <a:srgbClr val="adf0f5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:           (too many to name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80880" y="1219320"/>
            <a:ext cx="8229600" cy="1218960"/>
          </a:xfrm>
          <a:prstGeom prst="rect">
            <a:avLst/>
          </a:prstGeom>
          <a:solidFill>
            <a:srgbClr val="adf0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133720" y="1523880"/>
            <a:ext cx="144756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etCDF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892680" y="1523880"/>
            <a:ext cx="131436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IB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5518080" y="1523880"/>
            <a:ext cx="1257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DF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5" name="Group 41"/>
          <p:cNvGrpSpPr/>
          <p:nvPr/>
        </p:nvGrpSpPr>
        <p:grpSpPr>
          <a:xfrm>
            <a:off x="380880" y="2612880"/>
            <a:ext cx="8305920" cy="1143000"/>
            <a:chOff x="380880" y="2612880"/>
            <a:chExt cx="8305920" cy="1143000"/>
          </a:xfrm>
        </p:grpSpPr>
        <p:sp>
          <p:nvSpPr>
            <p:cNvPr id="226" name="Rectangle 9"/>
            <p:cNvSpPr/>
            <p:nvPr/>
          </p:nvSpPr>
          <p:spPr>
            <a:xfrm>
              <a:off x="380880" y="2612880"/>
              <a:ext cx="8305920" cy="1143000"/>
            </a:xfrm>
            <a:prstGeom prst="rect">
              <a:avLst/>
            </a:prstGeom>
            <a:solidFill>
              <a:srgbClr val="adf0f5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tack: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2590920" y="2917800"/>
              <a:ext cx="4572000" cy="533160"/>
            </a:xfrm>
            <a:prstGeom prst="rect">
              <a:avLst/>
            </a:prstGeom>
            <a:solidFill>
              <a:srgbClr val="3366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netCDF-CF-DAP-THREDDS-WMS   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28" name="Group 42"/>
          <p:cNvGrpSpPr/>
          <p:nvPr/>
        </p:nvGrpSpPr>
        <p:grpSpPr>
          <a:xfrm>
            <a:off x="380880" y="4114800"/>
            <a:ext cx="8229600" cy="1219320"/>
            <a:chOff x="380880" y="4114800"/>
            <a:chExt cx="8229600" cy="1219320"/>
          </a:xfrm>
        </p:grpSpPr>
        <p:sp>
          <p:nvSpPr>
            <p:cNvPr id="229" name="Rectangle 11"/>
            <p:cNvSpPr/>
            <p:nvPr/>
          </p:nvSpPr>
          <p:spPr>
            <a:xfrm>
              <a:off x="380880" y="4114800"/>
              <a:ext cx="8229600" cy="1219320"/>
            </a:xfrm>
            <a:prstGeom prst="rect">
              <a:avLst/>
            </a:prstGeom>
            <a:solidFill>
              <a:srgbClr val="adf0f5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pplications:</a:t>
              </a:r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2924280" y="4219560"/>
              <a:ext cx="144756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Matlab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4448160" y="4219560"/>
              <a:ext cx="144792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rcGI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5972040" y="4219560"/>
              <a:ext cx="175284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erre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990720" y="4829040"/>
              <a:ext cx="144756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GrAD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590920" y="4832280"/>
              <a:ext cx="167616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Google Earth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4419720" y="4829040"/>
              <a:ext cx="83808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DV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5410080" y="4832280"/>
              <a:ext cx="83844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A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6400800" y="4844880"/>
              <a:ext cx="106668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RDDA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7620120" y="4844880"/>
              <a:ext cx="838080" cy="3524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9" name="Rectangle 23"/>
          <p:cNvSpPr/>
          <p:nvPr/>
        </p:nvSpPr>
        <p:spPr>
          <a:xfrm>
            <a:off x="380880" y="5943600"/>
            <a:ext cx="8229600" cy="685800"/>
          </a:xfrm>
          <a:prstGeom prst="rect">
            <a:avLst/>
          </a:prstGeom>
          <a:solidFill>
            <a:srgbClr val="adf0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:              (too many to nam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0" name="Group 31"/>
          <p:cNvGrpSpPr/>
          <p:nvPr/>
        </p:nvGrpSpPr>
        <p:grpSpPr>
          <a:xfrm>
            <a:off x="2666880" y="609480"/>
            <a:ext cx="4572000" cy="762120"/>
            <a:chOff x="2666880" y="609480"/>
            <a:chExt cx="4572000" cy="762120"/>
          </a:xfrm>
        </p:grpSpPr>
        <p:sp>
          <p:nvSpPr>
            <p:cNvPr id="241" name="Line 24"/>
            <p:cNvSpPr/>
            <p:nvPr/>
          </p:nvSpPr>
          <p:spPr>
            <a:xfrm>
              <a:off x="2666880" y="838080"/>
              <a:ext cx="1295640" cy="5335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Line 25"/>
            <p:cNvSpPr/>
            <p:nvPr/>
          </p:nvSpPr>
          <p:spPr>
            <a:xfrm flipH="1">
              <a:off x="4419720" y="762120"/>
              <a:ext cx="838080" cy="60948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Line 26"/>
            <p:cNvSpPr/>
            <p:nvPr/>
          </p:nvSpPr>
          <p:spPr>
            <a:xfrm>
              <a:off x="3733920" y="762120"/>
              <a:ext cx="1295280" cy="5331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 flipH="1">
              <a:off x="3809520" y="609480"/>
              <a:ext cx="838440" cy="685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5" name="Line 28"/>
            <p:cNvSpPr/>
            <p:nvPr/>
          </p:nvSpPr>
          <p:spPr>
            <a:xfrm>
              <a:off x="5943600" y="762120"/>
              <a:ext cx="1295280" cy="5331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Line 29"/>
            <p:cNvSpPr/>
            <p:nvPr/>
          </p:nvSpPr>
          <p:spPr>
            <a:xfrm flipH="1">
              <a:off x="5791320" y="685800"/>
              <a:ext cx="838080" cy="60948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Line 30"/>
            <p:cNvSpPr/>
            <p:nvPr/>
          </p:nvSpPr>
          <p:spPr>
            <a:xfrm>
              <a:off x="4419720" y="685800"/>
              <a:ext cx="1218960" cy="60948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8" name="Group 32"/>
          <p:cNvGrpSpPr/>
          <p:nvPr/>
        </p:nvGrpSpPr>
        <p:grpSpPr>
          <a:xfrm>
            <a:off x="2438280" y="5334120"/>
            <a:ext cx="4572000" cy="761400"/>
            <a:chOff x="2438280" y="5334120"/>
            <a:chExt cx="4572000" cy="761400"/>
          </a:xfrm>
        </p:grpSpPr>
        <p:sp>
          <p:nvSpPr>
            <p:cNvPr id="249" name="Line 33"/>
            <p:cNvSpPr/>
            <p:nvPr/>
          </p:nvSpPr>
          <p:spPr>
            <a:xfrm>
              <a:off x="2438280" y="5562360"/>
              <a:ext cx="1295640" cy="53316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0" name="Line 34"/>
            <p:cNvSpPr/>
            <p:nvPr/>
          </p:nvSpPr>
          <p:spPr>
            <a:xfrm flipH="1">
              <a:off x="4191120" y="5486400"/>
              <a:ext cx="838080" cy="609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>
              <a:off x="3505320" y="5486400"/>
              <a:ext cx="1295280" cy="532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36"/>
            <p:cNvSpPr/>
            <p:nvPr/>
          </p:nvSpPr>
          <p:spPr>
            <a:xfrm flipH="1">
              <a:off x="3580920" y="5334120"/>
              <a:ext cx="838440" cy="68544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3" name="Line 37"/>
            <p:cNvSpPr/>
            <p:nvPr/>
          </p:nvSpPr>
          <p:spPr>
            <a:xfrm>
              <a:off x="5715000" y="5486400"/>
              <a:ext cx="1295280" cy="53280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4" name="Line 38"/>
            <p:cNvSpPr/>
            <p:nvPr/>
          </p:nvSpPr>
          <p:spPr>
            <a:xfrm flipH="1">
              <a:off x="5562720" y="5410080"/>
              <a:ext cx="838080" cy="609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39"/>
            <p:cNvSpPr/>
            <p:nvPr/>
          </p:nvSpPr>
          <p:spPr>
            <a:xfrm>
              <a:off x="4191120" y="5410080"/>
              <a:ext cx="1218960" cy="609120"/>
            </a:xfrm>
            <a:prstGeom prst="line">
              <a:avLst/>
            </a:prstGeom>
            <a:ln w="7632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56" name="AutoShape 43"/>
          <p:cNvSpPr/>
          <p:nvPr/>
        </p:nvSpPr>
        <p:spPr>
          <a:xfrm>
            <a:off x="4114800" y="2209680"/>
            <a:ext cx="9144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AutoShape 44"/>
          <p:cNvSpPr/>
          <p:nvPr/>
        </p:nvSpPr>
        <p:spPr>
          <a:xfrm>
            <a:off x="4114800" y="354960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7086600" y="1523880"/>
            <a:ext cx="8380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Footer Placeholder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NOAA/UAF-gr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23:39:23Z</dcterms:created>
  <dc:creator>tmap/k</dc:creator>
  <dc:description/>
  <dc:language>en-US</dc:language>
  <cp:lastModifiedBy>hankin</cp:lastModifiedBy>
  <dcterms:modified xsi:type="dcterms:W3CDTF">2010-11-16T16:20:43Z</dcterms:modified>
  <cp:revision>414</cp:revision>
  <dc:subject/>
  <dc:title>Slide 1</dc:title>
</cp:coreProperties>
</file>